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C09-E4DD-48CB-B248-35ADCB27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6C1-C2CF-4D72-9CB5-1526ADE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0AC-8DAE-443A-9362-EB2FCE8B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E32-D3BE-44A2-A1B0-48654DD1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F15-DA26-4EEA-AD2C-C38A73EB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90A-61D8-434B-A247-7C2CD4F5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4B5-C7C0-46C6-99EC-390BD5A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9B7-1C95-4575-8019-E8A95293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354-6C7B-4F66-97D3-328D8F5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7CF-0C2E-488A-9BFD-C1354DE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076-BA9F-45AB-8099-43986AE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F78-2C89-4362-B7C9-C01E662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23E-D042-477F-B380-158708BA7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cialstudies.org/notable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roline C. Sheffield, Ph.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iversity of Louisvi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reading zone"/>
          <p:cNvPicPr/>
          <p:nvPr/>
        </p:nvPicPr>
        <p:blipFill>
          <a:blip r:embed="rId1"/>
          <a:stretch/>
        </p:blipFill>
        <p:spPr>
          <a:xfrm>
            <a:off x="3193920" y="1895400"/>
            <a:ext cx="27432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Where to find goo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social studies trade books…</a:t>
            </a:r>
            <a:br>
              <a:rPr sz="3600"/>
            </a:b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socialstudies.org/notabl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533520" y="3733920"/>
            <a:ext cx="2457360" cy="263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4572000" y="3657600"/>
            <a:ext cx="3735360" cy="268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" name="Picture 9" descr="Current Notable Cover"/>
          <p:cNvPicPr/>
          <p:nvPr/>
        </p:nvPicPr>
        <p:blipFill>
          <a:blip r:embed="rId4"/>
          <a:stretch/>
        </p:blipFill>
        <p:spPr>
          <a:xfrm>
            <a:off x="2743200" y="2209680"/>
            <a:ext cx="2179800" cy="29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380880" y="144792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The Book-in-an-Hour technique is a modification of jig-saw readings.  In this activity an entire novel can be read in as little as one hour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clt.astate.edu/sparks/book%20images/Volume%202/Vol%202%20Iss%201/Devil%20on%20My%20Heels.jpg"/>
          <p:cNvPicPr/>
          <p:nvPr/>
        </p:nvPicPr>
        <p:blipFill>
          <a:blip r:embed="rId1"/>
          <a:stretch/>
        </p:blipFill>
        <p:spPr>
          <a:xfrm>
            <a:off x="5799240" y="1371600"/>
            <a:ext cx="2824200" cy="426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Elephant"/>
              </a:rPr>
              <a:t>Book in an Hour- a 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990720" y="1371600"/>
            <a:ext cx="701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ribed by Cyrus F. Smith, Jr. in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ording Smith (1979) and Childrey (1980) this method is beneficial for a number of reasons includ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tivating students to read an entir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ing reluctant readers by limiting read alou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 assign chapters of varying sizes to students based on their reading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students to be introduced to a variety of literature in a 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summ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Book in an Hour – today’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11430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portunity to incorporate some of the available historical fiction and non-fiction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ay to bring in multipl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literacy skills such as identifying main idea and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quires listening as well as read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does not take three weeks to read a no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Elephant"/>
              </a:rPr>
              <a:t>Book in an Ho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066680"/>
            <a:ext cx="8381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Select an appropriate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Purchase 2 copies of the novel (paperbac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3: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ar the Book into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4: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mplete an appropriate pre-reading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5: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istribute Book in an Hour form and provide time for students to read their sections and complete th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6: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tudents Report on their sections. Through the course of the presentation of the novel, students will write a one-sentence summary for each presented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tep 7: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ave students complete an appropriate post-reading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380880" y="228600"/>
            <a:ext cx="830592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A Book in an H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Book Title: 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Author: 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Chapter/Section: ___________________________________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Characters featured in the section: 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uice ITC"/>
              </a:rPr>
              <a:t>Events that happened in this section: ___________________________________________________________________________________________________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19040" y="304920"/>
            <a:ext cx="8305920" cy="465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Draw a picture of the most important event in your section of th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57200" y="5105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What are your predictions about what will happen in the rest of the story? ___________________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304920" y="838080"/>
            <a:ext cx="8458200" cy="575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1382040" y="-103320"/>
            <a:ext cx="675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Juice ITC"/>
                <a:ea typeface="Calibri"/>
              </a:rPr>
              <a:t>Write a One-Sentence 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8"/>
          <p:cNvSpPr/>
          <p:nvPr/>
        </p:nvSpPr>
        <p:spPr>
          <a:xfrm>
            <a:off x="228600" y="1274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lephant"/>
                <a:ea typeface="Calibri"/>
              </a:rPr>
              <a:t>Example Post-Reading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33520" y="1066680"/>
            <a:ext cx="80769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earch the historical event addressed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rite a summary pictur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rite the next chapter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vie poster for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AFT activity – writing to one of the characters in the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urn the book into a graphic nov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fe-size characte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henticate the no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0:33:42Z</dcterms:created>
  <dc:creator>Caroline Sheffield</dc:creator>
  <dc:description/>
  <dc:language>en-US</dc:language>
  <cp:lastModifiedBy>c0shef01</cp:lastModifiedBy>
  <dcterms:modified xsi:type="dcterms:W3CDTF">2012-01-19T20:30:26Z</dcterms:modified>
  <cp:revision>24</cp:revision>
  <dc:subject/>
  <dc:title>Embracing Literacy with a Book in an Hour</dc:title>
</cp:coreProperties>
</file>